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7477C-B1F0-44B5-BAB0-9F2ADB140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FAB62-DA3C-4280-A80E-792ED0A5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AD952-4A0B-4D97-9E20-96E1FD14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49148-0C12-4AA4-85CB-E1E29C337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1A98-C5C8-4949-8A67-FDFDE98A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CD1DF-FCDF-42BD-9465-FB242EE1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0B54-FBB8-437B-B95B-FAD2AC92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8E74-3DAA-4DA7-AF70-E71B7747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D65D-759B-4A8D-B53B-CB77329E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23FB-159F-46D6-8159-93A959C1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93BF-D236-4586-8844-21A0790D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8BE70-0E27-4577-9804-51B08B27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F07F9-AC84-4873-861A-4FD7823BD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7481E-C726-4F47-BEB3-8C0F93B9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BDAD-C886-40A5-9B5E-565392449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3EBC-B80B-4787-B0D6-8076C7FBA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D804-8522-4C71-B18F-2E05D538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E4301-AC50-416B-8148-923FD548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04E75-FCB7-48C2-B5C7-1E0C0654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92053-3BE1-4271-9348-CF2F82D4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655BD-3D38-4BA2-8107-67B19FF0B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3E294-8C9D-4D26-9056-ADCD12E8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A1DA5-5133-4095-9437-DCC63D96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ACE4C-3971-4F77-BA4B-9A87E393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BED8-49B3-4B00-812C-EAEB933907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0FA6-5BE5-408E-8A34-0706B98821B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Микропроцессорные систе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601956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кроконтрол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52280" y="6477120"/>
            <a:ext cx="243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©</a:t>
            </a:r>
            <a:r>
              <a:rPr b="0" lang="ru-RU" sz="800" spc="-1" strike="noStrike">
                <a:solidFill>
                  <a:srgbClr val="3333cc"/>
                </a:solidFill>
                <a:latin typeface="Times New Roman"/>
              </a:rPr>
              <a:t> Е.А. Сторожок, доц. каф. ИСКТ ВГУЭ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D:\vvsu.gif"/>
          <p:cNvPicPr/>
          <p:nvPr/>
        </p:nvPicPr>
        <p:blipFill>
          <a:blip r:embed="rId1"/>
          <a:stretch/>
        </p:blipFill>
        <p:spPr>
          <a:xfrm>
            <a:off x="228600" y="228600"/>
            <a:ext cx="838080" cy="372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писание выво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362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вывод источника пит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общий провод («земля»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(РВ7...РВ0) — порт В является 8-битовым двунаправленным параллельным портом ввода/вывода с встроенными подтягивающими резисторами. У выводов порта предусмотрены внутренние подтягивающие резисторы (их можно включать или выключать для каждого бита отдельно). Выводы РВ0 и РВ1 также являются положи­тельны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) и отрицательным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N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входами встроенного ана­логового компаратора. Выходные буферы порта В могут поглощать ток до 20 мА и непосредственно управлять светодиодными индикаторами. Это означает, что микроконтроллер способен управлять нагрузкой до 20 мА при состоянии логического 0 на выходе порта. Таким образом, для управления светодиодом его следует подсоединить одним выводом к выводу порта микроконтроллера, а другим — к напряжению питания 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Соответственно светиться светодиод (а значит, и потреблять ток) будет при значении 0 на соответствующей линии порта. Если выводы РВ0...РВ7 используются как входы и извне устанавливаются в низкое состояние, они являются источниками тока, если включены внутренние подтягивающие резисторы. Кроме того, порт В обслуживает некоторые специальные функции, которые будут описаны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475308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0) —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является 7-битовым двунаправленным параллельным портом ввода/вывода с встроенными подтягивающими резисторами. Выходные буферы пор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акже могут поглощать ток до 20 мА. Как входы, установленные в низкое состояние,   выводы   порта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являются   источниками   тока, если задействованы подтягивающие резисторы. Кроме того,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служивает некоторые специа­льные функции, которые будут описаны ниж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вход сброса. Удержание на входе низкого уровня в течение двух машинных циклов (если работает тактовый генератор), перезапускает микроконтролл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 — вход инвертирующего усилителя генератора и вход внешнего тактового сигн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TA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 — выход инвертирующего усилителя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4983120" y="549360"/>
            <a:ext cx="4160880" cy="5832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90S23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йл регистров общего назнач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гистровый файл микроконтроллера содержит 32 8-разрядных регистра общего назначения, доступ к которым осуществляется за один машинный цикл. Благодаря этому микроконтроллер может выполнить большинство команд за один цикл тактовой част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ЛУ поддерживает арифметические и логические операции с регистрами, с константами и регистра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роме регистровых операций, для работы с регистровым файлом могут использоваться доступные режимы адресации, так как регистровый файл занимает адреса $00-$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области данных, обращаться к ним можно и как к ячейкам памя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странство ввода/вывода состоит из 64 адресов для периферийных функций процессора, таких, как управляющие регистры, таймеры/счетчики и др. Доступ к пространству ввода/вывода может осуществляться непосредственно как к ячейкам памяти, расположенным после регистрового файла ($20—$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ольшинство команд, использующих регистры, могут использовать любые регистры общего назначения. Исключение составляют пять команд, оперирующих с константами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C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команд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D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загружающая регистр константой. Эти команды работают только со второй половиной регистрового файла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ому регистру присвоен адрес в пространстве данных, они отображаются на первые 32 ячейки ОЗУ. Хотя регистровый файл физически размещен вне ОЗУ, подобная организация памяти дает гиб­кий доступ к регистр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21844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разработке микроконтроллеров семейст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была использована так называемая гарвардская архитектура. Смысл ее состоит в том, что память программ и данных программы располагается в разных областях памяти. На рис. 3 изображена структура памяти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туп к памяти программ осуществляется следующим образом: во время выполнения одной команды следующая команда выбирается из памяти программ. Это дает возможность выполнять по одной команде за каждый машинный цик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помощи команд относительных переходов и вызова подпрограмм осуществляется доступ ко всему адресному пространству. Большая часть команд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ет размер 16-разрядов одно слово. Каждый адрес в памяти программ содержит одну 16- или 32-разрядную коман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работке прерываний и вызове подпрограмм адрес возврата запоминается в стеке. Стек размещается в оперативной памяти дан­ных общего назначения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, его размер ограничен только размером доступной памяти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ее использованием в программе. Все программы пользователя должны инициализировать указатель стека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сразу после запуска микроконтроллера, до того как вызываются подпрограммы и разрешаются прерыва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3492360" y="549360"/>
            <a:ext cx="5194440" cy="63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се пространство памя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является линейным и непрерыв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одуль прерываний имеет собственный управляющий регистр в пространстве ввода/вывода, и флаг глобального разрешения прерываний в регистре состояния. Каждому прерыванию назначен свой вектор в начальной области памяти программ. Различные прерывания имеют приоритет в соответствии с расположением их векторов. По младшим адресам расположены векторы с большим приоритетом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>
            <a:lum contrast="42000"/>
          </a:blip>
          <a:srcRect l="16529" t="8159" r="15830" b="8729"/>
          <a:stretch/>
        </p:blipFill>
        <p:spPr>
          <a:xfrm>
            <a:off x="324000" y="765000"/>
            <a:ext cx="3384360" cy="3673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95280" y="4437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 3 Структура памя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рифметико-логическое устройство (АЛУ) микроконтроллера непосредственно подключено к 32 регистрам общего назначения. За один машинный цикл АЛУ производит операции между регистрами регистрового файла. АЛУ может выполнять арифметические, логические и битовые оп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мять 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содержит 2 Кб флэш-памяти для хранения программ. Флэш-память организована как 1Кх16. В фирменном описании микроконтроллера утверждается, что флэш-память можно перепрограммировать до 1000 ра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ный счетчик имеет ширину 10 битов и позволяет адресовать 1024 слов памяти програм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ы занесения информации (т. е. программ) во флэш-память микроконтроллера будут рассмотрены дальш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памят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содержит 128 байтов электрически стираемой энерго­независимой памяти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организована как отдель­ная область данных, каждый байт которой может быть прочитан и при необходимости перезаписан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ыдерживает не менее 100 000 циклов записи/стирания. К этой памяти может обращаться программа, считывая или записывая какие-либо данные. Кроме того, данные в эту память можно занести с помощью специального устройства — программатора, на этапе изготовления и программиро­вания конструкции. Ее удобно использовать для хранения каких-либо конста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9280" y="620640"/>
            <a:ext cx="489744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перативная память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рисунке показана организация памяти данных 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. 224 ячейки памяти включают в себя регистровый файл, память ввода/вывода и оперативную память данны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вые 96 адресов используются для регистрового файла и памя­ти ввода/вывода, следующие 128 — для ОЗУ данны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и обращении к памяти используются пять различных режимов адресации: прямой, непосредственный со смещением, непосредст­венный, непосредственный с предварительным декрементом и непо­средственный с постинкрементном. Регист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6..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1 регистрового файла используются как указатели для непосредственной адрес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>
            <a:lum contrast="42000"/>
          </a:blip>
          <a:srcRect l="14511" t="0" r="14511" b="0"/>
          <a:stretch/>
        </p:blipFill>
        <p:spPr>
          <a:xfrm>
            <a:off x="5219640" y="620640"/>
            <a:ext cx="3745080" cy="5616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0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гистр состояния —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R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>
            <a:lum contrast="60000"/>
          </a:blip>
          <a:srcRect l="7085" t="0" r="4427" b="0"/>
          <a:stretch/>
        </p:blipFill>
        <p:spPr>
          <a:xfrm>
            <a:off x="468360" y="1197000"/>
            <a:ext cx="8136000" cy="1138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4"/>
          <p:cNvSpPr/>
          <p:nvPr/>
        </p:nvSpPr>
        <p:spPr>
          <a:xfrm>
            <a:off x="250920" y="2421000"/>
            <a:ext cx="8353440" cy="41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стр состояния расположен по адресу $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($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) пространства ввода/вывода и определен следующим образо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7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: общее разрешение прерываний. Для разрешения пре­рываний этот бит должен быть установлен в единицу. Управление отдельными прерываниями производится регистрами маски прерываний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 Если бит 1 = 0, независимо от состоя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CK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прерывания запрещены.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обнуляется аппаратно после входа в прерывание и восстанавливается в состояние 1 командой возврата из подпрограммы обработки прерывани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T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для раз­решения обработки последующих прерыв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 — Т: хранение копируемого бита. Бит из регистра регист­рового файла может быть скопирован в Т команд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ST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, бит Т может быть скопирован в бит регистрового файла командой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LD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Би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 — Н: флаг половинного переноса. Этот флаг индицирует перенос из младшей половины байта при некоторых арифметических операциях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60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4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бит знака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= 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OR 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вен исключающему ИЛИ между флагами N (отрицательный результат) 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переполне­ние дополнения до двух). Если после операций сложения или вычи­тания чисел со знаком флаг переполнения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будет установлен в 1, то результатом будет 9-разрядное число, причем старшим (т. е. знако­вым) разрядом числа будет флаг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 8 остальных битов результата будут храниться в 8-разрядном регистре-приемнике выполнявшейся опер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3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переполнения дополнения до двух. Этот флаг надо проверять после операций сложения или вычитания чисел в до­полнительном коде. Он устанавливается в том случае, если результат операции выходит за пределы диапазона от -128 до +127. Это — допустимый диапазон чисел со знаком, которые можно сохранить в 8 разрядах. Соответственно, би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установится в 1, если при сложении двух положительных чисел получится число, большее 127, или при сложении двух отрицательных чисел меньше -12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2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отрицательного результата. Этот флаг устанавливается в 1, если старший (знаковый) разряд (бит 7) равен 1, что означает, что результат отрицателен. Следует, однако, отметить, что флаг может быть также установлен и в результате логических опера­ц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1 —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флаг нулевого результата. Этот флаг индицирует нулевой результат различных арифметических и логических операций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ит 0 — С: флаг переноса. Этот флаг индицирует перенос в арифметических и логических операциях. Подробнее об этом можно прочитать в описании системы коман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Указатель стек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250920" y="1197000"/>
            <a:ext cx="83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т 8-разрядный регистр с адресом $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$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хранит указатель; стека процесс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313. Восьми разрядов достаточно для адресации ОЗУ в пределах $60 — $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F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>
            <a:lum contrast="66000"/>
          </a:blip>
          <a:srcRect l="7767" t="23212" r="5819" b="1295"/>
          <a:stretch/>
        </p:blipFill>
        <p:spPr>
          <a:xfrm>
            <a:off x="324000" y="2205000"/>
            <a:ext cx="8351640" cy="1220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468360" y="3429000"/>
            <a:ext cx="806436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казатель стека указывает на область памяти, в которой сохраняется адрес возврата из подпрограмм и прерываний. Также с помощью стека подпрограммы могут получать или передавать дан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бласть стека в ОЗУ должна быть задана до того, как произойдет любой вызов подпрограммы или будут разрешены прерывания. Указатель стека уменьшается на 1 при записи данных в стек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и уменьшается на 2 при вызове подпрограммы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обработке прерывания. Указатель стека увеличивается на 1 при выборе данных из стека команд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 увеличивается на 2 при выполнении команд возврата из подпрограммы или обработчика прерывани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T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накомство с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контроллеро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920" y="2060280"/>
            <a:ext cx="403884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кроконтроллеры являются сердцем многих современных устройств и приборов, в том числе и бытовы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й главной особенностью микроконтроллеров, с точки зрения конструктора-проектировщика, является то, что с их помощью легче и зачастую гораздо дешевле реализовать различные 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4140360" y="2060640"/>
            <a:ext cx="4762440" cy="3875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рисунка видно, что микроконтроллер может управлять раз­личными устройствами и принимать от них данные при минимуме дополнительных узлов, так как большое число периферийных схем уже имеется непосредственно на кристалле микроконтроллера. Это позволяет уменьшить размеры конструкции и снизить потребление энергии от источника пит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равнения: при использовании традиционных микропроцессоров приходится все необходимые схемы сопряжения с другими устройствами реализовывать на дополнительных компонентах, что увеличивает массу, размеры и потребление электроэнерг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йте рассмотрим типичные схемы, присутствующие в микро­контроллер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льное процессорное устройство (ЦПУ) — сердце микроконтроллера. Оно принимает из памяти программ коды команд декодирует их и выполняет. ЦПУ состоит из регистров, арифмети­ко-логического устройства (АЛУ) и цепей управл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 программ. Здесь хранятся коды команд, последовательность которых формирует программу для микро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ая память данных. Здесь хранятся переменные программ. У большинства микроконтроллеров здесь расположен также сте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товый генератор. Этот генератор определяет скорость работы микро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пь сброса. Эта цепь служит для правильного запуска микро­ контролле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ледовательный порт — очень полезный элемент микроконтроллера. Он позволяет обмениваться данными с внешними устройствами при малом количестве провод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ифровые линии ввода/вывода. По сравнению с последовательным портом с помощью этих линий возможно управлять одновременно несколькими линиями (или проверять несколько лини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ймер. Используется для отсчета временных интерва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20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орожевой таймер. Это специальный таймер, предназначенный для предотвращения сбоев программы. Он работает следующим образом: после запуска он начинает отсчет заданного временного интервала. Если программа не перезапустит его до истечения этого интервала времени, сторожевой таймер перезапустит микроконтроллер. Таким образом, программа должна давать сторожевому таймеру сигнал – все в порядке. Если она этого не сделала, значит, по какой-либо причине произошел с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емейства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0920" y="1844640"/>
            <a:ext cx="8642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это новое семейство 8-разрядны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микроконтроллеров фирм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Эти микроконтроллеры позволяют решать множество задач встроенных систем. Они отличаются от других распространенных в настоящее время микроконтроллеров большей скоростью работы, большей универсальностью. Быстродействие данных микроконтроллеров позволяет в ряде случаев применять их в устройствах, для реализации которых ранее можно было применять только 16-разрядные микроконтроллеры, что позволяет ощутимо удешевить готовую систему. Кроме того, микроконтроллеры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чень легко программируются — простейший программатор можно изготовить самостоятельно буквально в течение 30 минут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заявлению фирмы-производителя микроконтроллеров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) микроконтроллеры семейств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ожно перепрограммировать до 1000 раз, причем непосредственно в собранной схе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это делает эти микроконтроллеры очень привлекательными для создания новых разрабо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чему именно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разработаны фирм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me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 обладают следующими основными характеристик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быстрая гарвардская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рхитектура загрузки и вы­полнения большинства инструкций в течение ОДНОГО цикла тактового генератора. При этом достигается скорость работы примерно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МГц. Частота тактового генератора мно­гих типов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может достигать 10...16 МГц (10...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!)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lions Instructions per Secon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— миллионов операций в секунду). Отсутствует внутреннее деление частоты, как, например, в микроконтроллер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Таким образом, если использован кварцевый резонатор с часто­той 16 МГц, микроконтроллер будет работать с быстродействи­ем почти 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граммы содержатся в электрически перепрограммируемой постоянной памяти программ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 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Эта память может быть перепрограммирована до 1000 раз. Это облегчает настройку и отладку систем. Кроме того, возможность внутрисхемного программирования позволяет не вынимать микроконтроллер 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вой схемы в процессе программирования, что значительно ускоряет процесс разработки систем на основе этих микроконтролле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а команд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начально проектировалась с учетом особенностей языка программирования высокого уровня С, что в результате позволяет получать после компиляции программ на С гораздо более эффективный код, чем для других микроконтроллеров. А это уже выигрыш и в размере полученного кода (в объеме памяти на кристалле), и в скорости работы микроконтролле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32 регистра, все из которых напрямую работают с АЛУ. Это значительно уменьшает размер программ.  В микроконтроллера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то же самое займет всего одну команд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чень небольшое потребление энергии и наличие нескольких режимов работы с пониженным потреблением энергии делает эти микроконтроллеры идеальными для применения в конструкциях, питающихся от батарее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ичие дешевых и простых в использовании программных средств. Многие полноценные программы доступны в свободно распространяемом варианте, как, например, отладчик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 Studio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ассембле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vras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множество версий программаторов и даже компилятор языка С —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 gc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Некоторые из этих про­грамм имеются на компакт-диске, прилагаемом к книг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зл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W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(широтно-импульсная модуляция), таймеры/счетчики, аналоговый компаратор и последовательный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ART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троены в микроконтроллеры и могут управляться с помощью прерываний, что значительно упрощает работу с ни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меются относительные команды переходов и ветвлений, что позволяет получать перемещаемый ко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тсутствует необходимость переключать страницы памяти (в отличие, например, от микроконтроллер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се микроконтроллеры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меют электрически перепрограммируемую постоянную память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которая может быть перепрограммирована более 100 000 раз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07760" y="549360"/>
            <a:ext cx="8435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ется три подсемейства микроконтроллер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недорогие миниатюрные микроконтроллеры в 8-выводном исполнен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c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— основная линия микроконтроллеров с производительностью отдельных модификаций до 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ю программ 2...8 Кб,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4...512 байт, оперативной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28...512 бай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ga AV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производительностью 4...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ля сложных приложений, требующих большого объема памяти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памятью программ до 128 Кб,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64...512 байт, оперативной памятью данны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2...4 Кб, встроенным 10-разрядным 8-канальным АЦП, аппаратным умножителем 8x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есной особенностью семейства микроконтроллер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яется то, что система команд всего семейства совместима при переносе программы со слабого на более мощный микроконтролл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исание микроконтроллер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313 фирм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— современный 8-битовый КМОП - микроконтроллер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имеет производительность около 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P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 мегагерц за счет того, что почти все команды он выполняет за один пери­од тактового генера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ы семейств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R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остроены на основе расширенной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архитектуры, объединяющей развитый набор команд и 32 регистра общего назначения. Все 32 регистра непосредственно подключены к арифметико-логическому устройству (АЛУ), что дает доступ к любым двум регистрам в течение одного машинного цикла. Подобная архитектура обеспечивает почти десятикратный выигрыш в производительности по сравнению с традиционными микроконтроллерами, например, серии 805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икроконтролле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13 имеет следующие характеристики: 2 Кб загружаемой флэш-памяти; 128 байтов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EPRO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 15 линий ввода/вывода общего назначения; 32 рабочих регистра; два таймера/счетчика, один 8-разрядный, другой 16-разрядный; внешние и внутренние прерывания; встроенный последовательный порт; программируемый сторожевой таймер со встроенным генератором; последовательный пор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для загрузки программ; два выбираемых программно режима низкого энергопотреб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лэш-память на кристалле может быть перепрограммирована прямо в системе через последовательный интерфейс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02:43:19Z</dcterms:created>
  <dc:creator>Dexter</dc:creator>
  <dc:description/>
  <dc:language>en-US</dc:language>
  <cp:lastModifiedBy>Сивченко</cp:lastModifiedBy>
  <dcterms:modified xsi:type="dcterms:W3CDTF">2009-06-16T22:56:04Z</dcterms:modified>
  <cp:revision>12</cp:revision>
  <dc:subject/>
  <dc:title>Микропроцессорные системы</dc:title>
</cp:coreProperties>
</file>